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7D4-FA2C-415D-A4A1-FA926B13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B49-690B-4139-892F-466AF2CC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B255-F952-4AA6-B130-38C6E7A8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B1B0-DB3A-47C9-ACE6-13B3A6C9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E5C-3E49-4DE3-B0EF-CFCC7854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CCE-D5D8-4FB6-B8A7-4AD11694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8825-88E0-4304-875A-3D843A58D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A719-D889-4E9C-87BC-D777BA0D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E35-888C-4935-B885-C6F98492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6F7-A083-4FC3-970D-40520251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914-10DF-46C4-94DB-159EBD3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D1F-FD45-4459-B498-0552DF81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5C9-6C69-4C80-8EA4-3601B130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653-E863-48E1-A831-623512A6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99F-658F-4E43-8CB0-5052219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BC4-BA87-443B-9E4D-6A3726F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DAE-FF29-4E4F-B2DB-701C632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50A-8A76-4CA9-A4DE-6C5A1CD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D4C-B97F-4671-B77E-9466FBF3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141-712B-4B8F-824E-CAD48DB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DA9-23BD-4E43-BD07-946A5A5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A02-3575-4AA4-A9F7-58FB5500B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17 - ИСТРАЖИВАЊЕ У ФАРМАЦИЈИ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.НЕДЕЉА НАСТАВЕ</a:t>
            </a:r>
            <a:br>
              <a:rPr sz="2400"/>
            </a:br>
            <a:br>
              <a:rPr sz="2400"/>
            </a:b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ОСНОВНИ ПРИНЦИПИ ИС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449568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ц.др Дејана Ружић Зечеви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Врсте ис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удија са узрочно последичном везом- аналитичке сту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удије које не испитују узрочно последичну везу – дескриптивне студије (нпр. испитујемо утицај неког фактора на учесталост одређене појав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зултати истраживања треба да имају универзални значај, тј. општу применљивост, а не само локални знача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ЗБОР МЕТОДЕ ИСТРАЖИВ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спериментал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серваци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с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ксперименталне методе ис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циљу истраживања примењује се нека интервенција на популацији која се истражује (која се иначе не би спроводила да није испитивањ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финише се један независан фактор (варијабла), која се контролисано примењује и прати њен интезитет ефекта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ход, зависна варијаб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тали фактори (независне и збуњујуће варијабле) могу утицати на примарни исход (зависну варијабл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требна селекција испита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Опсервационе мето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ма додатне интервенције на испитиваној популацији, истраживач само бележи шта се догађа са популациј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атимо главну варијаблу чији утицај на исход нас највише зан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ележимо све независне и збуњујуће факторе који имају било какав утицај на ис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питаници нису јако селекциониса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Теоријске мето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кушај да се објасни оно што се догодило или ће се тек догодити у популац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струишу се математичке или вербалне теорије и/или модели (узрочно-последична ве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Популација која се истражу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ефинисати карактеристике популације која је предмет истражив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ритеријуми за укључи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ритеријуми за искључи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Узорак за истраживањ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Times New Roman"/>
              </a:rPr>
              <a:t>РЕЗУЛТАТИ ИСТРАЖИВАЊА СЕ МОГУ ГЕНЕРАЛИЗОВАТИ АКО Ј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зорак  репрезента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двојен из популације по принципу случај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Репрезентативност узор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руктура узорка истраживања треба да буде слична структури популације (нпр. однос полова и старосних груп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овољно велики узорак да би се појаве које се јављају у популацији могле уочити на одабраном броју испита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Случајни узор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ви чланови популације (са задатим карактеристикама) имају исту шансу за из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ришћење таблица случајних број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ратификовани случајни узо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ластер узо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Дефинисање варијабли истраживањ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Варијабле - параметри (променљиве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ависна варијабла – исход који се прати на сваком члану студијског узор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езависна варијабла (узр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етаљно описати метод мерења зависне варијаб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ачност, прецизност, поузданост, објективнос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Истраживањ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страживање је систематко прикупљање, анализа и интерпретација података, чији је циљ да се да одговор на одређено питање, односно реши задати пробл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учни проблем (спорно питање без јасног одговора) се решава применом научних метода истраж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римена статистике у истраживањ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рачунавање величине студијских група на основу жељ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снаге студије (статистички програ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-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кон спроведеног истраживања потребно је применом статистичких тестова на добијеним подацима  утврдити (не)постојање разлике између испитиваних студијских груп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тички аспект ис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Поштовати међународно признате етичке принципе који су садржани у документима који регулишу етичка питања (Хелсиншка декларација, смернице Добре Клиничке Праксе, Конвенција о људским оравима и биомедицини итд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Информација за пацијента и писана сагласност пацијента за учешће у истраживањ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Улога Етичких одб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вантитативне методе истражив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зултати истраживања се добијају мерењем вредности студијских варијаб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еном статистичких метода упоређују се добијене вредности између студијских гр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ош увек се сматрају валиднијим од кавалитативних метода истраживања (лакше се публикуј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валитативне методе истражив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удијске варијабле се не могу измерити, односно не могу изразити бројев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рисна допуна квантитативним метод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рвју, фокус група, номинална група, Делфи тех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Научно истраживањ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арактерише систематски приступ генерисању новог знања, који се надовозује на претходни рад и претходне резултате, и у исто време проверава да ли у оквиру претходног рада постоје пропу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Научно истраживањ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јважнији задатак научно-истраживачког рада је да произведе нову научно релевантну информаци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учно релевантна информација може бити било који скуп података који су прошли ригорозну проверу научног мет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Када се истраживање не рад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ада се одговор унапред з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ада је одговор ирелевантан (научно и практичн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ад нисте сигурни шта желите да сазнате  у току истраживањ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ада не располажете потребним ресурсима за спровођење истраж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Истраживање - дизај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цизан план по коме ће се спровести нека а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јективност истраживања (избећи “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тј. утицај воље истраживача на резултате истраживањ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нага истраживања – довољно велика вероватноћа да се може открити феномен који истражује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ова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зводљивост истраж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ЛАН ИС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новни елементи плана истраживањ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улисање 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бор методе истражив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ровођење истражив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ТЕМА ИСТРАЖИВАЊ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начај претраживања литерату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требно је детаљно изучити литературу из области која нас зани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ажно је препознати псеудонаучне информације које нису засноване на истраживању, као и информације добијене из истраживања која немају валидну методолог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требна едукација истраживача почетника о селекцији литера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Формулисање те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ма се дефинише се на основу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циљ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раж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зр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ход (последиц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пулациј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пр. –“Утицај клозапина на серумску концентрацију калцијума код психијатријских пацијената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01:46:29Z</dcterms:created>
  <dc:creator>Dejana</dc:creator>
  <dc:description/>
  <dc:language>en-US</dc:language>
  <cp:lastModifiedBy>Dejana</cp:lastModifiedBy>
  <dcterms:modified xsi:type="dcterms:W3CDTF">2003-05-25T00:29:24Z</dcterms:modified>
  <cp:revision>36</cp:revision>
  <dc:subject/>
  <dc:title>ОСНОВНИ ПРИНЦИПИ ИСТРАЖИВАЊА</dc:title>
</cp:coreProperties>
</file>